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903-AB1D-46BE-A121-0B9C3FD73D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656-5A71-4D58-B851-999CB48AB1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64-991D-4E70-B1F5-FDE9366E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6F8-CEE4-44F0-A67E-5ABB2CC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482-5571-4889-8B11-4B656C18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DD5-FE78-4101-A0BB-CCBAB7E0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EFC-CB97-4697-90FF-7A7D1805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6AC-1D5A-470E-8EB3-1079A3D2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557-8A43-49C6-AE39-4CC50E1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D75-E9C6-4AC2-B1AE-CF3A6DF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582-B829-4D4B-AEF7-9B5FF64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E41-AD7D-4BF7-9A37-35A869D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F07-18FC-4FBC-B59A-6551689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3F1-236C-4420-BA07-00D2E0E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DC6-2162-4141-BDE5-83A5E8A1B5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ESTI&#211;N%20%20DIRECTIVA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508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stión del establecimiento edu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200" y="6206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arca varias áreas, procesos y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26800" y="162864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direc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50920" y="20494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refiere a la manera como el establecimiento educativo es orien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se centra en el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direccionamiento estratég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cultura institucional, el clima y el gobierno esco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demás de las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laciones con el ento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De esta forma es posible que el rector o director y su equipo de gestión organicen, desarrollen y evalúen el funcionamiento general de la instit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53080" y="38545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académ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24000" y="429264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es la esencia del trabajo de un establecimiento educativo, pues señala cómo se enfocan sus acciones para lograr que los estudiantes aprendan y desarrollen las competencias necesarias para su desempeño personal, social y profe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de la gestión se encarga de los procesos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diseño cur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prácticas pedagógicas instituci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gestión de clases y seguimiento académ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211-7723-474E-9F0D-D977597C99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DC2-8D83-47BD-89B3-C9EC729FA6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8D64-45FE-46B9-AC15-6FC3DADD9E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94CA-BBD8-4407-99E3-C0505D86B3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2337-5163-4D3E-AC18-AA5A61C050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F1E-97EB-4744-9D5C-EF794FA689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752560" y="18900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administrativa y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50920" y="836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da soporte al trabajo institucional. Tiene a su cargo todos los procesos de apoyo a la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gestión académica, la administración de la planta física, los recursos y los servicios, el manejo del talento humano, y el apoyo financiero y co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964960" y="219852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de la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4000" y="27511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su nombre lo indica, se encarga de las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laciones de la institución con la comun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así como de la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participación y la conviv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atención educativa a grupos poblacionales con necesidades especiales bajo una perspectiva de inclusión, y la prevención de riesg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39164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estas áreas hay un conjunto de procesos y component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n ser evaluados periódicamente, a fin de identificar los avances y las dificultades, y de esta forma establecer las acciones que permitan su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060-6492-4482-90C3-1258C03F95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estas áreas hay un conjunto de procesos y component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n ser evaluados periódicamente, a fin de identificar los avances y las dificultades, y de esta forma establecer las acciones que permitan superar los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14288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cesos  y los componentes son los referentes para emprender la ruta del mejor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5E62-2634-46AC-A3A5-B1E2E35788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357120" y="1429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Y COMPONENTES DE LAS ÁREAS DE GESTIÓ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801360" y="148752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stión Dir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463E-8789-475A-A8D8-6AD469AF64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3 Rectángulo"/>
          <p:cNvSpPr/>
          <p:nvPr/>
        </p:nvSpPr>
        <p:spPr>
          <a:xfrm>
            <a:off x="585360" y="256860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Acadé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4 Rectángulo"/>
          <p:cNvSpPr/>
          <p:nvPr/>
        </p:nvSpPr>
        <p:spPr>
          <a:xfrm>
            <a:off x="571680" y="379080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Administrativa y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5 Rectángulo"/>
          <p:cNvSpPr/>
          <p:nvPr/>
        </p:nvSpPr>
        <p:spPr>
          <a:xfrm>
            <a:off x="618840" y="4997520"/>
            <a:ext cx="59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de  la  comun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FC3-2D10-4E29-8A34-97107BD5B3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CuadroTexto"/>
          <p:cNvSpPr/>
          <p:nvPr/>
        </p:nvSpPr>
        <p:spPr>
          <a:xfrm>
            <a:off x="1857240" y="142884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ONES PARA  EL   P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576-BF12-4B74-A4B7-7AAEC2EB12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F83-B945-47FA-826C-2592E650DD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619-6D64-4518-A4BD-C11FEB31DD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1117-83A7-4E9A-9F50-D2ADAAB2AC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55:02Z</dcterms:created>
  <dc:creator>MINISTERIO DE EDUCACION</dc:creator>
  <dc:description/>
  <dc:language>en-US</dc:language>
  <cp:lastModifiedBy>CIEN</cp:lastModifiedBy>
  <dcterms:modified xsi:type="dcterms:W3CDTF">2009-11-17T20:53:06Z</dcterms:modified>
  <cp:revision>23</cp:revision>
  <dc:subject/>
  <dc:title>Diapositiva 1</dc:title>
</cp:coreProperties>
</file>